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B92-EF12-41E9-93DB-5658B45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104-A167-4CCB-9354-2DE0F285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95C-6623-440E-B43D-C1763D0B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DEE-0460-46E4-AEF1-BAF3B60E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999-F98B-4279-AF8D-6EB61115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359-9A92-4DA6-B100-AB674C8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4EA-58F7-4C10-9A49-0B79BF43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AD6-6A51-4E14-8FED-8B4A8BF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1E8-D0CE-44E5-8598-900BD482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214-3963-4E99-A7D3-7F8AB89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B1A-6DCC-484A-98B5-CBFC66A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586-BF38-4FCC-B339-D17281D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2295-401B-4080-A5D5-FF2CA909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08800" y="944640"/>
            <a:ext cx="1787400" cy="11016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before we star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Increase= New-old then divide by old then multiply by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circle= 3.14 x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meter= distance around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54800" y="4525920"/>
            <a:ext cx="1838160" cy="1689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whoosh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NB is about 760 000 and the population of Canada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000 000. About what percent of the population of Canada is N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4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2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4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2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Jeff’s salary increased from $8 an hour to $10 an hour. What was the percent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3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2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2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circle has a diameter of  8cm. What is the approximate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.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64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) 50.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25.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 a theatre, 4/12 of the people are men, 2/5 are women and the rest are children. If there are 450 people altogether, how many are child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1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1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For the following set of numbers the mean is the same as the median. Which number is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,6,9,11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 square has an area of 144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12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48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144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124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hat would 3 boxes cost if 4 cost $2.9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$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$2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$2.2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$2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8040" y="-45360"/>
            <a:ext cx="795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What is the best estimate for the square root of 4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A rectangle has a perimeter of 18cm. What could the dimension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by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9by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7by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9by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Sue works in a hotel and makes 90 beds in a 6 hour shift. On average, how many beds does she make in 1 hour 20 minu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54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4680" y="1523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3:53:13Z</dcterms:created>
  <dc:creator>krista.graham</dc:creator>
  <dc:description/>
  <dc:language>en-US</dc:language>
  <cp:lastModifiedBy>krista.graham</cp:lastModifiedBy>
  <dcterms:modified xsi:type="dcterms:W3CDTF">2008-10-03T14:26:30Z</dcterms:modified>
  <cp:revision>4</cp:revision>
  <dc:subject/>
  <dc:title>Assessment Review</dc:title>
</cp:coreProperties>
</file>